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150-9F1E-4B36-87EF-8B95F51E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E79-D0F4-4EF1-9E1B-708136D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FAF-4662-48B6-85EE-36F548C1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43F-98F6-4B74-8D64-0354B588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692-0046-4E6F-9A2C-8DFD325A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869-DF2B-4709-8DE7-6DBE55C9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108-8081-41F0-AB41-72CF2FD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8F9-7609-49A3-B077-0FCE8FA1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815-974D-4C48-95C0-7BDACC89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353-A916-4CF6-9EE5-6907B62C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FAF-9DF7-4338-9042-A1C3022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6BC-29C7-4B96-B067-3D0E9AC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440-17E9-4573-B119-E21BA9C99925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alibri"/>
              </a:rPr>
              <a:t>NAOMH PÁDRAIG – ÉARLAMH NA hÉIREAN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2957760" cy="438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483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Óige Naomh Pádra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11280" y="1341360"/>
            <a:ext cx="447516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Rugadh Naomh Pádraig sa Bhreatain Bheag in 387. Ba Rómhánaigh iad a mhuintir. Bhí sé ina chónaí i dteach breá faoin tuat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Gabhadh é agus tugadh go hÉirinn 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Díoladh é le feirmeoir as Co. Aontroma darbh ainm Miolchú. Bhí Pádraig mar sclábhaí ai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7920" y="1484280"/>
            <a:ext cx="3851280" cy="498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Éal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4800" y="765000"/>
            <a:ext cx="5111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Bhí Pádraig ag tabhairt aire do chaora ar Shliabh Mi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Níor tugadh aire mhaith dó féin. Bhíodh sé ag guí agus ag rá a phaidreacha gach oích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Oíche amháin chuala sé glór. Dia a bhí ann. Dúirt Dia leis éalú. Cheap sé gur ag brionglóid a bhí sé, ach dúirt Dia nach raib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285444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Sa bhaile arí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836280"/>
            <a:ext cx="511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Chuaigh sé ar bord loinge ar ais go dtí an Bhreatain Bheag. Ní raibh sé i bhfad ann nuair a chuala sé an glór arís. Dúirt Dia leis dul ar ais go hÉirinn chun insint do na hÉireannaigh faoi Dhi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Shocraigh sé bheith ina shagart, agus dul go hÉirinn chun múineadh do na daoine sin faoi Dhi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Níorbh éasca é a dhéanamh. Bhí air dul go Mainistir St Martin de Torres, sa Fhrainc, chun staidéar. Ansin chuaigh sé ar ais go Sasan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55640" y="2081160"/>
            <a:ext cx="237636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708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Ag seanmóireacht in Éirin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1341000"/>
            <a:ext cx="5111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Nuair a chuaigh Pádraig ar ais go hÉirinn, bhí ionadh mór ar gach duine go raibh Gaeilge aig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D’úsáid sé seamróg chun míniú do dhaoine faoin faoin Tríonóid Naofa – an tAthair, an Mac agus an Spiorad Naom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Deirtear freisin gur chuir sé an ruaig ar an nathracha go léir, agus sin an fáth nach bhfuil nathracha in Éirin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88108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5843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alibri"/>
              </a:rPr>
              <a:t>A shaol níos déana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1197000"/>
            <a:ext cx="511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Chaith Naomh Pádraig seasca bliain in Éirinn. San am sin d’oirnigh sé 350 Easpag chun leanúint leis an oba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Fuair sé bás ar an 17 Márta, sa bhliain 493, i Sabhall i gCo. an Dúi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Tá sé curtha i nDún Pádraig, atá i gCo. an Dúin freis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1308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Lá Fhéile Pádra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24000" y="1412640"/>
            <a:ext cx="4762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Déantar Lá Fhéile Pádraig a cheiliúradh ar an 17 Márta. Lá mór féile agus spraoi é ar fud an domhai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Bíonn paráidí agus cóisirí ag go leor daoine – go háirithe daoine de bhunadh na hÉireann iad-  i gcuimhne ar Naomh Pádraig agus a dtír dhúchais nó tír a sinse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9:50Z</dcterms:created>
  <dc:creator>pauline</dc:creator>
  <dc:description/>
  <dc:language>en-US</dc:language>
  <cp:lastModifiedBy>Damien</cp:lastModifiedBy>
  <dcterms:modified xsi:type="dcterms:W3CDTF">2012-03-12T16:48:07Z</dcterms:modified>
  <cp:revision>17</cp:revision>
  <dc:subject/>
  <dc:title>PowerPoint Presentation</dc:title>
</cp:coreProperties>
</file>