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drumroll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FCD2-1815-4058-8CC7-D6B8C9DBA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8A03-A7B0-4386-87AB-98F0AB36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679E-7080-4B8F-926F-DB2CCBED8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9B89-CA31-406A-A5F8-4A73D8FE1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0B72-D276-4440-89D4-32C3F7E7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799E-1926-4CBF-B90D-21217809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994E-22BC-420D-B331-C57E232F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6BE7-9281-4DDF-888D-53D24C84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1BF7-6CEF-4C1B-B7A6-0792B0A6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435D-8363-43D1-A41D-3FA0A317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A499-5868-4B2E-AEA0-DD7E5250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3CFE-FD5D-4ED7-BEFF-68C1F64D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81DE-88D6-4965-BB9F-1CEBE382F37F}" type="slidenum">
              <a:rPr b="0" lang="en-I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50828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000000"/>
                </a:solidFill>
                <a:latin typeface="Calibri"/>
              </a:rPr>
              <a:t>NAOMH PÁDRAIG – ÉARLAMH NA hÉIREAN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771640" y="692280"/>
            <a:ext cx="2957760" cy="4383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2" name="drumroll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5483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Óige Naomh Pádrai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211280" y="1341360"/>
            <a:ext cx="4475160" cy="512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000000"/>
                </a:solidFill>
                <a:latin typeface="Comic Sans MS"/>
              </a:rPr>
              <a:t>Rugadh Naomh Pádraig sa Bhreatain Bheag in 387. Ba Rómhánaigh iad a mhuintir. Bhí sé ina chónaí i dteach breá faoin tuath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000000"/>
                </a:solidFill>
                <a:latin typeface="Comic Sans MS"/>
              </a:rPr>
              <a:t>Gabhadh é agus tugadh go hÉirinn é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000000"/>
                </a:solidFill>
                <a:latin typeface="Comic Sans MS"/>
              </a:rPr>
              <a:t>Díoladh é le feirmeoir as Co. Aontroma darbh ainm Miolchú. Bhí Pádraig mar sclábhaí aig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277920" y="1484280"/>
            <a:ext cx="3851280" cy="4984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2" name="drumroll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Éal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574800" y="765000"/>
            <a:ext cx="511164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omic Sans MS"/>
              </a:rPr>
              <a:t>Bhí Pádraig ag tabhairt aire do chaora ar Shliabh Mi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omic Sans MS"/>
              </a:rPr>
              <a:t>Níor tugadh aire mhaith dó féin. Bhíodh sé ag guí agus ag rá a phaidreacha gach oích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omic Sans MS"/>
              </a:rPr>
              <a:t>Oíche amháin chuala sé glór. Dia a bhí ann. Dúirt Dia leis éalú. Cheap sé gur ag brionglóid a bhí sé, ach dúirt Dia nach raibh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2854440" cy="34574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2" name="drumroll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Sa bhaile arí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574800" y="836280"/>
            <a:ext cx="5111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000000"/>
                </a:solidFill>
                <a:latin typeface="Comic Sans MS"/>
              </a:rPr>
              <a:t>Chuaigh sé ar bord loinge ar ais go dtí an Bhreatain Bheag. Ní raibh sé i bhfad ann nuair a chuala sé an glór arís. Dúirt Dia leis dul ar ais go hÉirinn chun insint do na hÉireannaigh faoi Dhia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000000"/>
                </a:solidFill>
                <a:latin typeface="Comic Sans MS"/>
              </a:rPr>
              <a:t>Shocraigh sé bheith ina shagart, agus dul go hÉirinn chun múineadh do na daoine sin faoi Dhia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000000"/>
                </a:solidFill>
                <a:latin typeface="Comic Sans MS"/>
              </a:rPr>
              <a:t>Níorbh éasca é a dhéanamh. Bhí air dul go Mainistir St Martin de Torres, sa Fhrainc, chun staidéar. Ansin chuaigh sé ar ais go Sasana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755640" y="2081160"/>
            <a:ext cx="2376360" cy="30974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2" name="drumroll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7570800" cy="77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Ag seanmóireacht in Éirin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574800" y="1341000"/>
            <a:ext cx="51116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000000"/>
                </a:solidFill>
                <a:latin typeface="Comic Sans MS"/>
              </a:rPr>
              <a:t>Nuair a chuaigh Pádraig ar ais go hÉirinn, bhí ionadh mór ar gach duine go raibh Gaeilge aig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000000"/>
                </a:solidFill>
                <a:latin typeface="Comic Sans MS"/>
              </a:rPr>
              <a:t>D’úsáid sé seamróg chun míniú do dhaoine faoin faoin Tríonóid Naofa – an tAthair, an Mac agus an Spiorad Naomh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700" spc="-1" strike="noStrike">
                <a:solidFill>
                  <a:srgbClr val="000000"/>
                </a:solidFill>
                <a:latin typeface="Comic Sans MS"/>
              </a:rPr>
              <a:t>Deirtear freisin gur chuir sé an ruaig ar an nathracha go léir, agus sin an fáth nach bhfuil nathracha in Éirinn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2881080" cy="3240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2" name="drumroll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584352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00000"/>
                </a:solidFill>
                <a:latin typeface="Calibri"/>
              </a:rPr>
              <a:t>A shaol níos déana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74800" y="1197000"/>
            <a:ext cx="51116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omic Sans MS"/>
              </a:rPr>
              <a:t>Chaith Naomh Pádraig seasca bliain in Éirinn. San am sin d’oirnigh sé 350 Easpag chun leanúint leis an obai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omic Sans MS"/>
              </a:rPr>
              <a:t>Fuair sé bás ar an 17 Márta, sa bhliain 493, i Sabhall i gCo. an Dúi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omic Sans MS"/>
              </a:rPr>
              <a:t>Tá sé curtha i nDún Pádraig, atá i gCo. an Dúin freisi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2951280" cy="3600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2" name="drumroll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613080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Lá Fhéile Pádrai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924000" y="1412640"/>
            <a:ext cx="47624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omic Sans MS"/>
              </a:rPr>
              <a:t>Déantar Lá Fhéile Pádraig a cheiliúradh ar an 17 Márta. Lá mór féile agus spraoi é ar fud an domhai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omic Sans MS"/>
              </a:rPr>
              <a:t>Bíonn paráidí agus cóisirí ag go leor daoine – go háirithe daoine de bhunadh na hÉireann iad-  i gcuimhne ar Naomh Pádraig agus a dtír dhúchais nó tír a sinsea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3333600" cy="4175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  <p:sndAc>
      <p:stSnd>
        <p:snd r:embed="rId2" name="drumroll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9:09:50Z</dcterms:created>
  <dc:creator>pauline</dc:creator>
  <dc:description/>
  <dc:language>en-US</dc:language>
  <cp:lastModifiedBy>Damien</cp:lastModifiedBy>
  <dcterms:modified xsi:type="dcterms:W3CDTF">2012-03-12T16:48:07Z</dcterms:modified>
  <cp:revision>17</cp:revision>
  <dc:subject/>
  <dc:title>PowerPoint Presentation</dc:title>
</cp:coreProperties>
</file>