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6FD-AB62-470B-A86D-806AFCC0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B95-A538-4521-8D30-DD225D0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09D-5155-4DA7-860B-622E8D10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6DB-FF38-4CAD-A932-74B3B92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A7F1-6091-4F5D-BCED-6D302B2C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BCAC-5628-4302-9677-5E94EBB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72F-6B88-4A0A-8832-F7C5FAE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781-2603-42EA-A883-8AAB08E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B3ED-6E85-407A-8544-9B838833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3CE-169B-4A3D-83C9-B4ACBF0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DCE7-5876-451C-8FA0-2AC4343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872-5474-41AA-88D7-733C266B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3042-F960-448F-B408-01B08737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318C-468F-4145-AC50-9D05B9F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3BEF-5397-4272-BC74-7FE45B6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1F21-41C3-4C07-844B-D33084AC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9DEA-1336-435C-97F1-4520382F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7A8-D8C6-4595-AB4D-06DE368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781-3218-4B43-97EB-F00EB71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F6F-F16C-4B52-A736-6F32DB2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43B-405D-4FCE-9568-DB0BFF4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FD0-29F4-48BE-AA15-AAE3589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A02-52E5-42B3-B43B-AD119C1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58E-8D22-4241-86E4-85F64A2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C6F-386B-4AF5-A391-3FCF7F499AC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2D4-CD7C-40DF-9310-D25C68FF99E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reland-Stamp-new1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647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a cheathrú rann 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006633"/>
                </a:solidFill>
                <a:latin typeface="Garamond"/>
              </a:rPr>
              <a:t>Obair Bhaile: Ar thaitin an dán seo leat? Tabhair cúiseanna le do fhreagra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laregalway-map"/>
          <p:cNvPicPr/>
          <p:nvPr/>
        </p:nvPicPr>
        <p:blipFill>
          <a:blip r:embed="rId1"/>
          <a:stretch/>
        </p:blipFill>
        <p:spPr>
          <a:xfrm>
            <a:off x="0" y="0"/>
            <a:ext cx="9325080" cy="68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An tEarrach Thiar</a:t>
            </a:r>
            <a:br>
              <a:rPr sz="3800"/>
            </a:b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le Máirtín Ó Direái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s é grá áite agus an saol traidisiúnta ar Inis Mór is téama don dán álainn s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ceithre véarsa sa dán agus cruthaíonn (creates) an Direánach pictiúr gléineach (clear) den oileán i ngach véa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Cuireann an file saol ciúin, síochánta, ‘ionraic’ an oileáin os ár gcomhair go héifeacht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Chreid an file go raibh ‘ionracas’ ag baint le saol an oileáin. Cheap sé go raibh ‘falsacht’ ag baint le saol na cathr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Molann an file Inis Mór i ngach ran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Saol Foirfe an Oile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s am an-ghnóthach é an tEarrach faoin tuath. Mar a deir an seanfhocal; “An té a chuireann san Earrach, bainfidh sé san Fhómhar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íl brú an tsaoil nó ‘coimhthíos na cathrach’ ag cur as do mhuintir an oileá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s saghas Útóipe é an t-oileá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Saol Foirfe an Oile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</a:t>
            </a:r>
            <a:r>
              <a:rPr b="1" lang="en-IE" sz="2600" spc="-1" strike="noStrike">
                <a:solidFill>
                  <a:srgbClr val="996600"/>
                </a:solidFill>
                <a:latin typeface="Arial"/>
              </a:rPr>
              <a:t>gach radharc agus gach fuaim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r an oileán síochánta agus álainn. Leagtar </a:t>
            </a:r>
            <a:r>
              <a:rPr b="1" lang="en-IE" sz="2600" spc="-1" strike="noStrike">
                <a:solidFill>
                  <a:srgbClr val="996600"/>
                </a:solidFill>
                <a:latin typeface="Arial"/>
              </a:rPr>
              <a:t>béim ar na céadfaithe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sa dá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an obair ar an oileán ionraic agus traidisiún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Úsáideann an file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a lán aidiachtaí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gus é ag déanamh cur síos ar an oileán –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binn, séimh, niamhrach, síothach.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Déanann sé amhlaidh chun ‘ionracas’ an oileáin a chur abhaile orainn. Thug an file ‘ionracas chloch, charraig is trá’ ar an ionrcas s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5" descr="a%20DVD%20Review%20Robert%20J"/>
          <p:cNvPicPr/>
          <p:nvPr/>
        </p:nvPicPr>
        <p:blipFill>
          <a:blip r:embed="rId1"/>
          <a:stretch/>
        </p:blipFill>
        <p:spPr>
          <a:xfrm>
            <a:off x="4716360" y="1052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4360" y="4005360"/>
            <a:ext cx="345600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%20DVD%20Review%20Robert%20J"/>
          <p:cNvPicPr/>
          <p:nvPr/>
        </p:nvPicPr>
        <p:blipFill>
          <a:blip r:embed="rId3"/>
          <a:stretch/>
        </p:blipFill>
        <p:spPr>
          <a:xfrm>
            <a:off x="4788000" y="3789360"/>
            <a:ext cx="3529080" cy="264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1052640"/>
            <a:ext cx="4248000" cy="28371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én íomhá a fheicimid i véarsa a haon?Tarraing pictiúr di i do chóipleabh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 véarsa a haon: Feicimid feirmeoir agus é ag obair sa gharraí, </a:t>
            </a:r>
            <a:r>
              <a:rPr b="1" lang="en-IE" sz="3000" spc="-1" strike="noStrike">
                <a:solidFill>
                  <a:srgbClr val="cc9900"/>
                </a:solidFill>
                <a:latin typeface="Arial"/>
              </a:rPr>
              <a:t>“ag glanadh cré / De ghimseán spáide”.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000" spc="-1" strike="noStrike">
                <a:solidFill>
                  <a:srgbClr val="996600"/>
                </a:solidFill>
                <a:latin typeface="Arial"/>
              </a:rPr>
              <a:t>Cloisimid fuaim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bhinn an lae agus </a:t>
            </a:r>
            <a:r>
              <a:rPr b="1" lang="en-IE" sz="3000" spc="-1" strike="noStrike">
                <a:solidFill>
                  <a:srgbClr val="3b812f"/>
                </a:solidFill>
                <a:latin typeface="Arial"/>
              </a:rPr>
              <a:t>mothaímid brothal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a haimsire. Cruthaíonn an file atmaisféar ciúin, síochánta, taitneamhach ar bhealach éachtach sa chéad véa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 véarsa a dó: Sa véarsa seo cuirtear fear eile os ár gcomhair. Tá an fear seo ag déanamh obair thraidisiúnta freisin,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“Fear ag caitheamh / Cliabh dhá dhroim / Is an fheamainn dhearg / Ag lonrú”.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Obair ionraic, thraidisiúnta atá ar siúl ar an oileán. Is aoibhinn an radharc é an fheamainn ag lonrú. </a:t>
            </a:r>
            <a:r>
              <a:rPr b="0" lang="en-IE" sz="2600" spc="-1" strike="noStrike">
                <a:solidFill>
                  <a:srgbClr val="3b812f"/>
                </a:solidFill>
                <a:latin typeface="Arial"/>
              </a:rPr>
              <a:t>Feicimid gile an lae seo go soiléir inár n-intinn. Ar ndóigh, úsáidtear an fheamainn mar leasú ar an talamh. Tá na dathanna an-éifeachtach ans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a tríú véarsa______________________ 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23:32:01Z</dcterms:created>
  <dc:creator>Owner</dc:creator>
  <dc:description/>
  <dc:language>en-US</dc:language>
  <cp:lastModifiedBy>Owner</cp:lastModifiedBy>
  <dcterms:modified xsi:type="dcterms:W3CDTF">2016-12-02T14:57:21Z</dcterms:modified>
  <cp:revision>8</cp:revision>
  <dc:subject/>
  <dc:title>Slide 1</dc:title>
</cp:coreProperties>
</file>