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AFD1-54CF-4CA4-BFB4-2DE02A6F3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5A21-B25C-470D-90ED-757A085FE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5904-E0BE-4622-AB1F-F6D71DF0D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1642-9F94-443F-A8BE-825DEE10D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79E59-8B53-4106-B311-1C0AB56B9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CA660-B139-44D9-8356-BA20A7EA2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29B32-CF8C-49C3-810F-38D400D22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E190A-D181-4CEC-AA87-CD969D99E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F19BE-665C-4D4C-8E86-EA5DDDD0F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445F6-2584-4180-ABCF-3D1609F75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BAF9E-72A6-4EBB-8EEB-EAFC7F28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6F32-CC3F-4D3C-A011-AED2EDFE3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B5FC6-3B81-426F-9A75-4B840783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DA89D-7BB7-4550-A6C8-48F8CC21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B9901-0E7A-4231-AB05-E4D59A28F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7C338-3718-402A-9FDB-0CF9C3AED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0A926-A244-4F16-A4AE-AB7EB9C9F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3332-D490-4270-A18A-95239C20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F0A4-C6DB-4493-8A65-E64885B80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311E-A643-4FFF-A918-069EDEF98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22B6-4D47-4EC5-B3C8-03B84E770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03A6-D2BC-46DA-978C-56503DD8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4602-042B-40C0-BEDD-4706F55B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21B9-E94B-4759-8E57-2D2DAEC7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57B6A-2924-42C9-87E8-ADDE5AD72E99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44E7E-9EE4-473F-B22C-66999793C343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Ireland-Stamp-new1"/>
          <p:cNvPicPr/>
          <p:nvPr/>
        </p:nvPicPr>
        <p:blipFill>
          <a:blip r:embed="rId1"/>
          <a:stretch/>
        </p:blipFill>
        <p:spPr>
          <a:xfrm>
            <a:off x="179280" y="189000"/>
            <a:ext cx="8748720" cy="6473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2000" fill="hold"/>
                                        <p:tgtEl>
                                          <p:spTgt spid="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200" spc="-1" strike="noStrike">
                <a:solidFill>
                  <a:srgbClr val="006633"/>
                </a:solidFill>
                <a:latin typeface="Garamond"/>
              </a:rPr>
              <a:t>ÍOMHÁNNA AN DÁI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Sa cheathrú rann 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800" spc="-1" strike="noStrike">
                <a:solidFill>
                  <a:srgbClr val="006633"/>
                </a:solidFill>
                <a:latin typeface="Garamond"/>
              </a:rPr>
              <a:t>Obair Bhaile: Ar thaitin an dán seo leat? Tabhair cúiseanna le do fhreagra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7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claregalway-map"/>
          <p:cNvPicPr/>
          <p:nvPr/>
        </p:nvPicPr>
        <p:blipFill>
          <a:blip r:embed="rId1"/>
          <a:stretch/>
        </p:blipFill>
        <p:spPr>
          <a:xfrm>
            <a:off x="0" y="0"/>
            <a:ext cx="9325080" cy="687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b812f"/>
                                      </p:to>
                                    </p:animClr>
                                    <p:animClr clrSpc="rgb">
                                      <p:cBhvr>
                                        <p:cTn id="2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b812f"/>
                                      </p:to>
                                    </p:animClr>
                                    <p:set>
                                      <p:cBhvr>
                                        <p:cTn id="2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800" spc="-1" strike="noStrike">
                <a:solidFill>
                  <a:srgbClr val="006633"/>
                </a:solidFill>
                <a:latin typeface="Garamond"/>
              </a:rPr>
              <a:t>An tEarrach Thiar</a:t>
            </a:r>
            <a:br>
              <a:rPr sz="3800"/>
            </a:br>
            <a:r>
              <a:rPr b="0" lang="en-IE" sz="3800" spc="-1" strike="noStrike">
                <a:solidFill>
                  <a:srgbClr val="006633"/>
                </a:solidFill>
                <a:latin typeface="Garamond"/>
              </a:rPr>
              <a:t>le Máirtín Ó Direái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Arial"/>
              </a:rPr>
              <a:t>Is é grá áite agus an saol traidisiúnta ar Inis Mór is téama don dán álainn se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Arial"/>
              </a:rPr>
              <a:t>Tá ceithre véarsa sa dán agus cruthaíonn (creates) an Direánach pictiúr gléineach (clear) den oileán i ngach véars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Arial"/>
              </a:rPr>
              <a:t>Cuireann an file saol ciúin, síochánta, ‘ionraic’ an oileáin os ár gcomhair go héifeachtac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Arial"/>
              </a:rPr>
              <a:t>Chreid an file go raibh ‘ionracas’ ag baint le saol an oileáin. Cheap sé go raibh ‘falsacht’ ag baint le saol na cathrac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Arial"/>
              </a:rPr>
              <a:t>Molann an file Inis Mór i ngach ran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200" spc="-1" strike="noStrike">
                <a:solidFill>
                  <a:srgbClr val="006633"/>
                </a:solidFill>
                <a:latin typeface="Garamond"/>
              </a:rPr>
              <a:t>Saol Foirfe an Oileái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Is am an-ghnóthach é an tEarrach faoin tuath. Mar a deir an seanfhocal; “An té a chuireann san Earrach, bainfidh sé san Fhómhar”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Níl brú an tsaoil nó ‘coimhthíos na cathrach’ ag cur as do mhuintir an oileái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Is saghas Útóipe é an t-oileán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200" spc="-1" strike="noStrike">
                <a:solidFill>
                  <a:srgbClr val="006633"/>
                </a:solidFill>
                <a:latin typeface="Garamond"/>
              </a:rPr>
              <a:t>Saol Foirfe an Oileái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Arial"/>
              </a:rPr>
              <a:t>Tá </a:t>
            </a:r>
            <a:r>
              <a:rPr b="1" lang="en-IE" sz="2600" spc="-1" strike="noStrike">
                <a:solidFill>
                  <a:srgbClr val="996600"/>
                </a:solidFill>
                <a:latin typeface="Arial"/>
              </a:rPr>
              <a:t>gach radharc agus gach fuaim</a:t>
            </a:r>
            <a:r>
              <a:rPr b="0" lang="en-IE" sz="2600" spc="-1" strike="noStrike">
                <a:solidFill>
                  <a:srgbClr val="000000"/>
                </a:solidFill>
                <a:latin typeface="Arial"/>
              </a:rPr>
              <a:t> ar an oileán síochánta agus álainn. Leagtar </a:t>
            </a:r>
            <a:r>
              <a:rPr b="1" lang="en-IE" sz="2600" spc="-1" strike="noStrike">
                <a:solidFill>
                  <a:srgbClr val="996600"/>
                </a:solidFill>
                <a:latin typeface="Arial"/>
              </a:rPr>
              <a:t>béim ar na céadfaithe</a:t>
            </a:r>
            <a:r>
              <a:rPr b="0" lang="en-IE" sz="2600" spc="-1" strike="noStrike">
                <a:solidFill>
                  <a:srgbClr val="000000"/>
                </a:solidFill>
                <a:latin typeface="Arial"/>
              </a:rPr>
              <a:t> sa dá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Arial"/>
              </a:rPr>
              <a:t>Tá an obair ar an oileán ionraic agus traidisiún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Arial"/>
              </a:rPr>
              <a:t>Úsáideann an file </a:t>
            </a:r>
            <a:r>
              <a:rPr b="1" lang="en-IE" sz="2600" spc="-1" strike="noStrike">
                <a:solidFill>
                  <a:srgbClr val="cc9900"/>
                </a:solidFill>
                <a:latin typeface="Arial"/>
              </a:rPr>
              <a:t>a lán aidiachtaí</a:t>
            </a:r>
            <a:r>
              <a:rPr b="0" lang="en-IE" sz="2600" spc="-1" strike="noStrike">
                <a:solidFill>
                  <a:srgbClr val="000000"/>
                </a:solidFill>
                <a:latin typeface="Arial"/>
              </a:rPr>
              <a:t> agus é ag déanamh cur síos ar an oileán – </a:t>
            </a:r>
            <a:r>
              <a:rPr b="1" lang="en-IE" sz="2600" spc="-1" strike="noStrike">
                <a:solidFill>
                  <a:srgbClr val="cc9900"/>
                </a:solidFill>
                <a:latin typeface="Arial"/>
              </a:rPr>
              <a:t>binn, séimh, niamhrach, síothach.</a:t>
            </a:r>
            <a:r>
              <a:rPr b="0" lang="en-IE" sz="2600" spc="-1" strike="noStrike">
                <a:solidFill>
                  <a:srgbClr val="000000"/>
                </a:solidFill>
                <a:latin typeface="Arial"/>
              </a:rPr>
              <a:t> Déanann sé amhlaidh chun ‘ionracas’ an oileáin a chur abhaile orainn. Thug an file ‘ionracas chloch, charraig is trá’ ar an ionrcas si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7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8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en-IE" sz="38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en-IE" sz="38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en-IE" sz="3800" spc="-1" strike="noStrike">
                <a:solidFill>
                  <a:srgbClr val="006633"/>
                </a:solidFill>
                <a:latin typeface="Garamond"/>
              </a:rPr>
              <a:t>ÍOMHÁNNA AN DÁI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5" name="Picture 5" descr="a%20DVD%20Review%20Robert%20J"/>
          <p:cNvPicPr/>
          <p:nvPr/>
        </p:nvPicPr>
        <p:blipFill>
          <a:blip r:embed="rId1"/>
          <a:stretch/>
        </p:blipFill>
        <p:spPr>
          <a:xfrm>
            <a:off x="4716360" y="1052640"/>
            <a:ext cx="3600720" cy="2700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684360" y="4005360"/>
            <a:ext cx="3456000" cy="2685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a%20DVD%20Review%20Robert%20J"/>
          <p:cNvPicPr/>
          <p:nvPr/>
        </p:nvPicPr>
        <p:blipFill>
          <a:blip r:embed="rId3"/>
          <a:stretch/>
        </p:blipFill>
        <p:spPr>
          <a:xfrm>
            <a:off x="4788000" y="3789360"/>
            <a:ext cx="3529080" cy="26496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68360" y="1052640"/>
            <a:ext cx="4248000" cy="2837160"/>
          </a:xfrm>
          <a:prstGeom prst="rect">
            <a:avLst/>
          </a:prstGeom>
          <a:noFill/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Cén íomhá a fheicimid i véarsa a haon?Tarraing pictiúr di i do chóipleabh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" dur="2000" fill="hold"/>
                                        <p:tgtEl>
                                          <p:spTgt spid="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" dur="2000" fill="hold"/>
                                        <p:tgtEl>
                                          <p:spTgt spid="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" dur="2000" fill="hold"/>
                                        <p:tgtEl>
                                          <p:spTgt spid="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200" spc="-1" strike="noStrike">
                <a:solidFill>
                  <a:srgbClr val="006633"/>
                </a:solidFill>
                <a:latin typeface="Garamond"/>
              </a:rPr>
              <a:t>ÍOMHÁNNA AN DÁI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I véarsa a haon: Feicimid feirmeoir agus é ag obair sa gharraí, </a:t>
            </a:r>
            <a:r>
              <a:rPr b="1" lang="en-IE" sz="3000" spc="-1" strike="noStrike">
                <a:solidFill>
                  <a:srgbClr val="cc9900"/>
                </a:solidFill>
                <a:latin typeface="Arial"/>
              </a:rPr>
              <a:t>“ag glanadh cré / De ghimseán spáide”.</a:t>
            </a: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3000" spc="-1" strike="noStrike">
                <a:solidFill>
                  <a:srgbClr val="996600"/>
                </a:solidFill>
                <a:latin typeface="Arial"/>
              </a:rPr>
              <a:t>Cloisimid fuaim</a:t>
            </a: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 bhinn an lae agus </a:t>
            </a:r>
            <a:r>
              <a:rPr b="1" lang="en-IE" sz="3000" spc="-1" strike="noStrike">
                <a:solidFill>
                  <a:srgbClr val="3b812f"/>
                </a:solidFill>
                <a:latin typeface="Arial"/>
              </a:rPr>
              <a:t>mothaímid brothall </a:t>
            </a: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na haimsire. Cruthaíonn an file atmaisféar ciúin, síochánta, taitneamhach ar bhealach éachtach sa chéad véars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200" spc="-1" strike="noStrike">
                <a:solidFill>
                  <a:srgbClr val="006633"/>
                </a:solidFill>
                <a:latin typeface="Garamond"/>
              </a:rPr>
              <a:t>ÍOMHÁNNA AN DÁI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Arial"/>
              </a:rPr>
              <a:t>I véarsa a dó: Sa véarsa seo cuirtear fear eile os ár gcomhair. Tá an fear seo ag déanamh obair thraidisiúnta freisin, </a:t>
            </a:r>
            <a:r>
              <a:rPr b="1" lang="en-IE" sz="2600" spc="-1" strike="noStrike">
                <a:solidFill>
                  <a:srgbClr val="cc9900"/>
                </a:solidFill>
                <a:latin typeface="Arial"/>
              </a:rPr>
              <a:t>“Fear ag caitheamh / Cliabh dhá dhroim / Is an fheamainn dhearg / Ag lonrú”.</a:t>
            </a:r>
            <a:r>
              <a:rPr b="0" lang="en-IE" sz="2600" spc="-1" strike="noStrike">
                <a:solidFill>
                  <a:srgbClr val="000000"/>
                </a:solidFill>
                <a:latin typeface="Arial"/>
              </a:rPr>
              <a:t> Obair ionraic, thraidisiúnta atá ar siúl ar an oileán. Is aoibhinn an radharc é an fheamainn ag lonrú. </a:t>
            </a:r>
            <a:r>
              <a:rPr b="0" lang="en-IE" sz="2600" spc="-1" strike="noStrike">
                <a:solidFill>
                  <a:srgbClr val="3b812f"/>
                </a:solidFill>
                <a:latin typeface="Arial"/>
              </a:rPr>
              <a:t>Feicimid gile an lae seo go soiléir inár n-intinn. Ar ndóigh, úsáidtear an fheamainn mar leasú ar an talamh. Tá na dathanna an-éifeachtach anse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200" spc="-1" strike="noStrike">
                <a:solidFill>
                  <a:srgbClr val="006633"/>
                </a:solidFill>
                <a:latin typeface="Garamond"/>
              </a:rPr>
              <a:t>ÍOMHÁNNA AN DÁI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Sa tríú véarsa______________________ 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1T23:32:01Z</dcterms:created>
  <dc:creator>Owner</dc:creator>
  <dc:description/>
  <dc:language>en-US</dc:language>
  <cp:lastModifiedBy>Owner</cp:lastModifiedBy>
  <dcterms:modified xsi:type="dcterms:W3CDTF">2016-12-02T14:57:21Z</dcterms:modified>
  <cp:revision>8</cp:revision>
  <dc:subject/>
  <dc:title>Slide 1</dc:title>
</cp:coreProperties>
</file>