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03A-01B2-4B1F-9B5D-537C43CE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A6A-BEF4-439E-9B95-AC202315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0C7-BC3B-40F8-8F87-039B261A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2AD-6297-4D43-8C51-0CF95D7D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BA1-B31F-4F3C-93F3-467CE5AE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9F5-E268-4CF0-A44E-E6B8C208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416-FCB4-4057-8507-C5AA6F5E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A99-B165-4BF8-93BF-EDCD20EE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E5D-99F5-455E-8587-A2F36124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B6D-B479-4C79-BD9D-1E661B15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4AA-7D6F-4272-9685-B19739A0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044-417F-4A88-9FE6-57048134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3FB2-EBE8-47B2-B131-7EF4456692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archive.irishnewsarchive.com/Olive/APA/INA.Edu/Default.aspx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8000" spc="-1" strike="noStrike">
                <a:solidFill>
                  <a:srgbClr val="ffffff"/>
                </a:solidFill>
                <a:latin typeface="Comic Sans MS"/>
              </a:rPr>
              <a:t>Writing a Recip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Time to Prepa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me to prepare would include time it would take to chop vege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me to cook is the amount of time that the recipe needs to be in the oven/p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Materi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terials are the non-food items required. Here are some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easepro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rying 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king T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oden Sp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is also helpful to include the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ze of the material where applicable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h as a large mixing bow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Direc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Keep each step of the directions as shor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Be sure to include the heat settings for any cooking steps, such as a medium heat on the h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Include cooking times at each step, </a:t>
            </a: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for example simmer on a medium </a:t>
            </a: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heat for 20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Direc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If there are two elements to the recipe such as a filling and a crust, have two separate directions for th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The last step should be serving instructions</a:t>
            </a:r>
            <a:br>
              <a:rPr sz="3200"/>
            </a:b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such as serve on a large plate with a </a:t>
            </a: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green sa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Direc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If applicable include storage instructions, for example "Cookies will keep at room temperature in an airtight container for 3-4 days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8000" spc="-1" strike="noStrike">
                <a:solidFill>
                  <a:srgbClr val="ffffff"/>
                </a:solidFill>
                <a:latin typeface="Comic Sans MS"/>
              </a:rPr>
              <a:t>Sample Recip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Comic Sans MS"/>
              </a:rPr>
              <a:t>Charlie’s Chicken Pot Pie Reci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s://c1.staticflickr.com/3/2826/12076897653_04df1d5b68_b.jpg"/>
          <p:cNvPicPr/>
          <p:nvPr/>
        </p:nvPicPr>
        <p:blipFill>
          <a:blip r:embed="rId1"/>
          <a:srcRect l="0" t="42483" r="0" b="27389"/>
          <a:stretch/>
        </p:blipFill>
        <p:spPr>
          <a:xfrm>
            <a:off x="0" y="1052640"/>
            <a:ext cx="9144000" cy="182376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0" y="2887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mic Sans MS"/>
              </a:rPr>
              <a:t>Ingred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508720" y="2852640"/>
            <a:ext cx="3635280" cy="35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Comic Sans MS"/>
              </a:rPr>
              <a:t>Fil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Chicken breast - 1 </a:t>
            </a:r>
            <a:r>
              <a:rPr b="0" lang="en-IE" sz="1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 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Chopped onion - </a:t>
            </a:r>
            <a:r>
              <a:rPr b="0" lang="en-IE" sz="1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 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Carrots - 2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Celery - 2 s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Frozen green peas - 1 c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Unsalted butter - 2 tablesp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Whole wheat flour - </a:t>
            </a:r>
            <a:r>
              <a:rPr b="0" lang="en-IE" sz="1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 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Dried thyme -</a:t>
            </a:r>
            <a:r>
              <a:rPr b="0" lang="en-IE" sz="1800" spc="-1" strike="noStrike" baseline="30000">
                <a:solidFill>
                  <a:srgbClr val="ffffff"/>
                </a:solidFill>
                <a:latin typeface="Comic Sans MS"/>
              </a:rPr>
              <a:t> 1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 teasp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Salt - </a:t>
            </a:r>
            <a:r>
              <a:rPr b="0" lang="en-IE" sz="1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 teasp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Chicken stock - 2 c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Milk - 1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2195640" y="2909880"/>
            <a:ext cx="340668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Comic Sans MS"/>
              </a:rPr>
              <a:t>Cru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Whole wheat flour - 1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Salt - </a:t>
            </a:r>
            <a:r>
              <a:rPr b="0" lang="en-IE" sz="1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 teasp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Dried thyme -</a:t>
            </a:r>
            <a:r>
              <a:rPr b="0" lang="en-IE" sz="1800" spc="-1" strike="noStrike" baseline="30000">
                <a:solidFill>
                  <a:srgbClr val="ffffff"/>
                </a:solidFill>
                <a:latin typeface="Comic Sans MS"/>
              </a:rPr>
              <a:t> 1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 teasp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Garlic powder -</a:t>
            </a:r>
            <a:r>
              <a:rPr b="0" lang="en-IE" sz="1800" spc="-1" strike="noStrike" baseline="30000">
                <a:solidFill>
                  <a:srgbClr val="ffffff"/>
                </a:solidFill>
                <a:latin typeface="Comic Sans MS"/>
              </a:rPr>
              <a:t> 1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 teasp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Unsalted butter - </a:t>
            </a:r>
            <a:r>
              <a:rPr b="0" lang="en-IE" sz="1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 c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Water - </a:t>
            </a:r>
            <a:r>
              <a:rPr b="0" lang="en-IE" sz="1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IE" sz="1800" spc="-1" strike="noStrike">
                <a:solidFill>
                  <a:srgbClr val="ffffff"/>
                </a:solidFill>
                <a:latin typeface="Comic Sans MS"/>
              </a:rPr>
              <a:t> 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Comic Sans MS"/>
              </a:rPr>
              <a:t>Charlie’s Chicken Pot Pie Reci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0" y="114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mic Sans MS"/>
              </a:rPr>
              <a:t>4 Ser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2359080" y="1143000"/>
            <a:ext cx="6784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Comic Sans MS"/>
              </a:rPr>
              <a:t>Preparation Time: </a:t>
            </a:r>
            <a:r>
              <a:rPr b="1" lang="en-IE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1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Comic Sans MS"/>
              </a:rPr>
              <a:t>Cooking Time:</a:t>
            </a:r>
            <a:r>
              <a:rPr b="1" lang="en-IE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75 minutes</a:t>
            </a:r>
            <a:r>
              <a:rPr b="1" lang="en-IE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Comic Sans MS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Medium mixing b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Wooden Sp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F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Medium ovenproof d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Cling fi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Chopping board -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Sharp knife -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Frying 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Small b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Rolling 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Baking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Oven safe casserole d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Comic Sans MS"/>
              </a:rPr>
              <a:t>Charlie’s Chicken Pot Pie Reci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0" y="114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mic Sans MS"/>
              </a:rPr>
              <a:t>4 Ser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2359080" y="1143000"/>
            <a:ext cx="6784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Comic Sans MS"/>
              </a:rPr>
              <a:t>Preparation Time: </a:t>
            </a:r>
            <a:r>
              <a:rPr b="1" lang="en-IE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1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Comic Sans MS"/>
              </a:rPr>
              <a:t>Cooking Time:</a:t>
            </a:r>
            <a:r>
              <a:rPr b="1" lang="en-IE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75 minutes</a:t>
            </a:r>
            <a:r>
              <a:rPr b="1" lang="en-IE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Comic Sans MS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Medium mixing b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Wooden Sp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F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Medium ovenproof d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Cling fi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Chopping board -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Sharp knife -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Frying 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Small b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Rolling 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Baking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Comic Sans MS"/>
              </a:rPr>
              <a:t>Oven safe casserole d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189000"/>
            <a:ext cx="914400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mic Sans MS"/>
              </a:rPr>
              <a:t>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omic Sans MS"/>
              </a:rPr>
              <a:t>Ensure that you have the correct amounts of all the required ingred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mic Sans MS"/>
              </a:rPr>
              <a:t>Crust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omic Sans MS"/>
              </a:rPr>
              <a:t>Make the crust by mixing flour, salt, and seasonings in a medium bow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omic Sans MS"/>
              </a:rPr>
              <a:t>Use a fork to mash the butter into the dry mixture. The butter should now look like little chunks in the mix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omic Sans MS"/>
              </a:rPr>
              <a:t>Add cold water and mix until a rough dough 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en-IE" sz="2400" spc="-1" strike="noStrike">
                <a:solidFill>
                  <a:srgbClr val="ffffff"/>
                </a:solidFill>
                <a:latin typeface="Comic Sans MS"/>
              </a:rPr>
              <a:t>Press the dough into a flat pizza shape. Cover it </a:t>
            </a:r>
            <a:r>
              <a:rPr b="0" lang="en-IE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Comic Sans MS"/>
              </a:rPr>
              <a:t>     with cling film and place it into the fridge for             </a:t>
            </a:r>
            <a:r>
              <a:rPr b="0" lang="en-IE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Comic Sans MS"/>
              </a:rPr>
              <a:t>use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Comic Sans MS"/>
              </a:rPr>
              <a:t>A recipe is a set of instructions for making a particular dish, including a list of the ingredients nee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Comic Sans MS"/>
              </a:rPr>
              <a:t>Filling Di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Preheat oven to 190* C (150*C for a fan ove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Chop up chicken and vegetables into small pie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Heat a frying pan over a medium he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Cook the chicken in 1 tablespoon of butter until white. Then remove the chicken from the pan and place in a small bow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Add the second tablespoon of butter to the pan. Cook the onion, celery, and carrot for five minutes, until the onions become transluc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Add the peas and cook for one more minute or 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so, until the peas are no longer frozen. 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Mix the chicken back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Sprinkle seasonings and flour on top of 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vegetables and chicken and stir until evenly 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distribu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en-IE" sz="2200" spc="-1" strike="noStrike">
                <a:solidFill>
                  <a:srgbClr val="ffffff"/>
                </a:solidFill>
                <a:latin typeface="Comic Sans MS"/>
              </a:rPr>
              <a:t>Pour in stock and milk and simmer until thicke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-36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Comic Sans MS"/>
              </a:rPr>
              <a:t>Pie Di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Comic Sans MS"/>
              </a:rPr>
              <a:t>Move the chicken mixture from the frying pan to an oven safe casserole dis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Comic Sans MS"/>
              </a:rPr>
              <a:t>Take the crust out of the fridge and roll it out on a floured surface until it is large enough to cover the oven safe casserole dis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Comic Sans MS"/>
              </a:rPr>
              <a:t>Carefully place the crust on top of the oven safe casserole dish and remove excess crust. Cut a few slits in the top so that air can esca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Comic Sans MS"/>
              </a:rPr>
              <a:t>Place your oven safe casserole dish into the preheated 190* C </a:t>
            </a:r>
            <a:r>
              <a:rPr b="0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2200" spc="-1" strike="noStrike">
                <a:solidFill>
                  <a:srgbClr val="ffffff"/>
                </a:solidFill>
                <a:latin typeface="Comic Sans MS"/>
              </a:rPr>
              <a:t>oven and bake for 40-50 minutes, until crust is well </a:t>
            </a:r>
            <a:r>
              <a:rPr b="0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IE" sz="2200" spc="-1" strike="noStrike">
                <a:solidFill>
                  <a:srgbClr val="ffffff"/>
                </a:solidFill>
                <a:latin typeface="Comic Sans MS"/>
              </a:rPr>
              <a:t>cook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Comic Sans MS"/>
              </a:rPr>
              <a:t>                          </a:t>
            </a:r>
            <a:r>
              <a:rPr b="0" lang="en-IE" sz="2200" spc="-1" strike="noStrike">
                <a:solidFill>
                  <a:srgbClr val="ffffff"/>
                </a:solidFill>
                <a:latin typeface="Comic Sans MS"/>
              </a:rPr>
              <a:t>Serve with a green side sal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8000" spc="-1" strike="noStrike">
                <a:solidFill>
                  <a:srgbClr val="ffffff"/>
                </a:solidFill>
                <a:latin typeface="Comic Sans MS"/>
              </a:rPr>
              <a:t>Activit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Activit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ad the article from Irish Newspaper Archive’s on the next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rticle was published in the Irish Independent on 20 February 19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write the recipe in the correct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Comic Sans MS"/>
              </a:rPr>
              <a:t>Irish Independent 20 February 19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>
            <a:hlinkClick r:id="rId1"/>
          </p:cNvPr>
          <p:cNvPicPr/>
          <p:nvPr/>
        </p:nvPicPr>
        <p:blipFill>
          <a:blip r:embed="rId2"/>
          <a:srcRect l="3952" t="11930" r="3952" b="0"/>
          <a:stretch/>
        </p:blipFill>
        <p:spPr>
          <a:xfrm>
            <a:off x="2987640" y="1700280"/>
            <a:ext cx="48974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Elements in a Recip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gredients and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r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me to Pre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50572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name of the reci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n be liter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ll you something about the chef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 f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398680" y="3306600"/>
            <a:ext cx="65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rmally has the most important ingredient in the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40000" y="126828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anny’s Apple 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gg Salad Sandw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cle Tom’s Toffee P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ng Bang Chi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2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Ingredients and Amou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List the most important ingredient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Be clear with how much of each ingredient is required i.e. spoons, ounc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2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Ingredients and Amou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If the recipe has different elements (a pie, for example has a crust, a filling), break up the ingredient list with headings such as "Crust" and "Filling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835280" y="3719520"/>
            <a:ext cx="73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Comic Sans MS"/>
              </a:rPr>
              <a:t>Begin each new ingredient with a capital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erv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9520"/>
            <a:ext cx="91440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d a line to your recipe telling how many people it will se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ill help people to know if they need to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ke more or less for their family o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Time to Prepa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835280"/>
            <a:ext cx="91440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make sure we know how much time we need to make the recipe it is important to include the time to prepare and c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Emer Ní Chéidigh</cp:lastModifiedBy>
  <dcterms:modified xsi:type="dcterms:W3CDTF">2017-02-20T13:00:06Z</dcterms:modified>
  <cp:revision>361</cp:revision>
  <dc:subject/>
  <dc:title>Diapositiva 1</dc:title>
</cp:coreProperties>
</file>